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956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2228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6608-0F94-4EB5-AEDE-23DFF38EE8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6E9-AC6A-43DD-9978-B937EF35CBE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분석은 어떻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워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D0D2-B7E8-41B9-BB4B-5203528776F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처음엔 기름 성분의 흙에 명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 자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F76-BE2D-475A-800E-7CFF0CCEB78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B225-F636-419E-8FAE-377869575CF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플로지스톤 이론은 다양한 현상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연소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식물의 성장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소화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호흡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금속의 융해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에 관한 일관적 설명을 제공함으로써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18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세기 화학의 튼튼한 이론적 틀을 제공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D4A5-D4F7-4D85-B2F2-88E0C1A6A5A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정치적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·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종교적으로 급진적 성향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ff"/>
                </a:solidFill>
                <a:latin typeface="맑은 고딕"/>
              </a:rPr>
              <a:t>타당성이 점차 의심되고 있었던 플로지스톤 이론의 약한 고리를 땜질하고 개량해나갔던 인물 </a:t>
            </a:r>
            <a:r>
              <a:rPr b="0" lang="ko-KR" sz="23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ko-KR" sz="2300" spc="-1" strike="noStrike">
                <a:solidFill>
                  <a:srgbClr val="0000ff"/>
                </a:solidFill>
                <a:latin typeface="맑은 고딕"/>
              </a:rPr>
              <a:t> 마지막까지 새로운 화학 이론을 받아들이지 않았음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는 요즈음 우리가 여름이면 즐겨 찾는 청량 음료를 처음 발명한 과학자이기도 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탄산가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그때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된 기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알려졌던 기체에 압력을 가해 물에 녹여 넣으면 천연 광천수처럼 거품이 나는 물이 된다는 것을 처음 알아낸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발명으로 그는 영국 왕립 학회의 가장 영광스런 명예라 할 수 있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플리 메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받기도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8E40-A5E5-4046-96A9-ECAC5BD8E58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616D-91D7-4064-9691-1FDB382D5F8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B76B-E8A3-4BB4-8712-FD7FDB3AB01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BA5C-1E8C-40A4-97D5-7155D586373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는 이 공기 안에서 불꽃이 더 밝고 뜨겁게 타오르며 생쥐가 일반 공기에서보다 두 배 이상 오래 살 수 있음을 발견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공기는 플로기스톤이 없으므로 가연성 물질에 포함된 플로기스톤과 쉽게 결합하여 연소 현상을 일으킨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1948-45D7-4A0E-B1B2-76FFDE8B668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A6C5-C691-46F2-AD44-ABB337067FE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자칭 물리학자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물리학의 방법을 화학에 적용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프린키피아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의 확실성과 예측력 본받기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정량화 정신”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정밀 측정 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수학적 형식화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고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체 한 방울도 빠져나가지 못하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 아주 작은 무게도 정확하게 측정해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8E4A-42C5-45F6-B0CD-DBCAF336864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량보존의 법칙을 전제로 하고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E39E-E5A7-4A56-8FB3-3708C61D19B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071A-EBEE-47F5-AA4A-348BC53B6B1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60C7-A0CA-420C-BC9D-ABD3BEEB9C4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He heated mercury and air using a bell-jar for 12 days.  Red mercury calx (HgO) formed and the volume of air decreased from 50 to 42 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. 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B793-51AA-4E77-8B7B-2B02007D371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The red [HgO] was heated in a retort producing 8 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 of dephlogisticated air [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vantGarde Bk BT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]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E66-DF15-4501-9EA0-E7823BDF224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07C4-BEDD-4B8A-B6AC-949702DDB11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새로운 공기’가 비금속물질들과 반응해 산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acid)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를 만든다는 데서 착안해서 ‘산소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oxigen)’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라 명명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AEEB-EE78-4D63-9D5A-342472B68E5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7A8A-9A56-4B12-8A61-73D8126C08A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F12D-7416-45E3-BAEA-E3478B6D254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F0B5-15DE-484E-A4A6-FB628A048BC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FC95-80FB-428A-8C33-F3DAB14661C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013D-3A2F-431C-AACF-4FF959DEA75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C889-8D79-4BB9-90D7-1C2C9E221AC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C1DB-BB91-4170-99D5-E784896D400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9823-7BB1-467A-9E70-247582876AC7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200" y="5564160"/>
            <a:ext cx="5684760" cy="3903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대립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 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조합으로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이 바뀌면 원소도 바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을 가열하면 증발하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연금술에 이론적 기반 제공</a:t>
            </a:r>
            <a:r>
              <a:rPr b="0" lang="en-US" sz="15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화학 실험 도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저울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금속 녹이는 도가니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플라스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실험 방법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법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개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여러 종류의 물질 추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새로운 물질 이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용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화학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chemy/chemistry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알코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cohol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알칼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kali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embic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소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soda)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등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물질 이론 개량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황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수은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염 이론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연금술의 목적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후원자의 의도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영약 창조 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금 변환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연금술사들의 목적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영혼의 정화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이후 영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실험장치와 증류법과 같은 실험기술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다양한 물질들 추출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목적하던 금은 만들지 못했지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뜻하지도 않게 근대 화학의 기반을 닦았던 것이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영국의 철학자 프랜시스 베이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Francis Bacon;1561-1626)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은 연금술이 화학에 남긴 유산에 대하여 이솝의 우화를 예로 들어 설명했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"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은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임종시에 아들들에게 포도밭에 금을 묻어 두었다고 유언을 남긴 어느 농부와 같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그 말을 들은 아들들은 포도밭을 정신없이 파헤쳤지만 금은 나오지 않았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대신 그해 가을의 포도 수확은 매우 풍성했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와 마찬가지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금을 만들어 내려고 시도했던 많은 연금술사의 노력은 뜻하지 않은 새로운 발명과 화학의 진보를 가져왔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 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4FD8-F2FE-4F18-BCCA-CB366505D77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벨기에의 의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혼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뜻하는 그리스어 카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aos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 이름을 따 기체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gas)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2F9C-5572-49A7-A59E-B0028E76043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Robert Boyle, 1627- 1692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6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실험을 통해 쥐의 생명을 유지하는 데 신선한 공기가 필수적임을 보여 주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쥐를 넣은 용기를 밀폐시켰더니 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간 만에 죽었고 다시 그 용기에 다른 쥐를 넣었더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분만에 죽은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보일은 호흡의 목적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람이 체표면의 물을 말리는 것처럼 혈액 중에서 배설되는 휘발성 증기를 공기와 결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association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켜 외부로 가지고 나오는 것이라고 생각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이 휘발성 증기는 물질이 탈 때 나오는 검댕이나 연기와 마찬가지로 동물이 생명을 유지하지 못하도록 방해한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일의 결론은 한번 호흡에 사용된 공기는 적어도 같은 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BF3B-17E9-4D99-9558-E5FE9B3B53D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E677-0678-4CBE-AD7F-8FFD6C47BF1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된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산화탄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호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효 시에 생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연성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 수 있는 기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플로지스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? (1776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빠진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초석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산화 탄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명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쉘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7A62-A720-4623-A9D6-59252A5F368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412-EABE-4B13-850A-E8E03FFB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859-EB61-41EE-BB95-5A3059A0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176-77EC-4F19-A527-0BF0AC42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217-F6EB-4CA1-8F36-BD64217C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E4CA-52EB-499A-9CF8-9F5A7DB5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52C3-F9E0-4A0C-B152-702E7537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8EFC-AB75-489E-9140-B3DD9520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3860-B9AF-47CB-86D5-DCF1E30A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B742-272F-4C85-91D0-3ABD6E95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C9F5-4B0E-47F3-838E-E2633856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61B8-DBB8-48C2-911E-D5638AB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C45-DE5C-41C9-A764-14734978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DB0B-1CC0-40B5-9068-EBD8D717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F229-B532-40BA-BEF8-DD4870C6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F96B-007D-4BBD-8936-060EDB85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26A4-C75D-4253-A8CF-54186A57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6049-44D6-42AB-9F9A-E401A74E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144D1-21AA-438C-9D1B-E802149D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0A4F2-F860-4A62-97EE-EE03E9D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34E2D-A7EB-4424-BFB1-66BAD756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C7570-A7A9-4A69-B1E5-4FCC548F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7A7DD-5525-4478-9CD3-C5CD0E9D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9CC-75DB-4478-83D1-64C9B84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76104-4524-44B7-9445-3FA63F25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74CE5-5A34-4AD1-AABA-BFA9AF0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29049-1CE8-4DDB-BB4B-B376762C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BF5BE-415A-485D-A0F2-7F3C556B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4A517-C41E-4956-93BF-38914B4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CB131-B1ED-40EB-BCEE-EADC782F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B5507-AD1E-4CA6-ABEE-D62113B8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AB957-E589-403C-929C-BE14C659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FEA0-3A78-4ABA-9495-CC991840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91ED-3A32-4D67-9FD4-BD93986D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BE0-7BE0-4853-8CB0-5ACF46DD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8D4A0-B8AB-403C-8EAC-3B818267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1487-D300-4F5A-81F1-D60A8AFE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58A04-A477-473A-9A89-D39621E9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A5D7-8243-4623-B35A-E68DF408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1CB0-A408-42A1-9A81-ABC3896F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2044-DDB1-410B-9431-485987E9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B92D-8978-4DF6-B3CE-1D3BD0C4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E7AD4-5CE9-454A-B786-BAEA9CEB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ABDF-7D67-4B99-A20B-E3721CD4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B29-A6E5-41B1-BB69-F25D923F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642-75FD-49E6-BC35-38EA6B85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9EC-5422-4AC2-85C6-4712061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426-CFB4-4C0F-9663-C579602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660-F10F-42B0-A068-7A568DD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DCC9-0144-49B8-B0A2-6A29B96D0F39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B1DE-81B0-427F-AC37-B5A749A51FF2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DBA7-2D32-4502-B7F9-5E44C585AF10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8987-C945-4E1D-A027-53EE545E0793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genious.org.uk/See/?target=SeeMedium&amp;ObjectID=%7B5ADE6355-B01E-F295-8CCB-ECEAFC9BBDF5%7D&amp;Mode=HotBox&amp;ArticleID=%7B8602B302-C162-4E6D-9E4F-B95F0BAE1DEC%7D&amp;viewby=images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920"/>
            <a:ext cx="84582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438086"/>
                </a:solidFill>
                <a:latin typeface="Trebuchet MS"/>
              </a:rPr>
              <a:t>라부아지에와 화학 혁명</a:t>
            </a:r>
            <a:endParaRPr b="1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2013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세기 독일의 분석화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광업의 발달로 여러 물질의 구성물 분석 발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슈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0-1734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후 플로지스톤 이론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로지스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22160" y="486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를 가능케 해주는 원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 및 하소 시 물질에서 빠져나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2" name="Picture 2" descr="http://t2.gstatic.com/images?q=tbn:ANd9GcRMwUOg_TQV_yvjIKc3dHDT_UXVmjrJjPFC8zfsU4HsoRKBCxd4fA"/>
          <p:cNvPicPr/>
          <p:nvPr/>
        </p:nvPicPr>
        <p:blipFill>
          <a:blip r:embed="rId1"/>
          <a:stretch/>
        </p:blipFill>
        <p:spPr>
          <a:xfrm>
            <a:off x="1547640" y="609480"/>
            <a:ext cx="6164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무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방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소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금속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방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금속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불타는 초를 유리병으로 덮으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잠시 후 유리병 내부의 플로지스톤 포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이상 연소 불가능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초가 꺼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리스틀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33-180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21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화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목사 겸 대중 과학 강연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9" name="Picture 4" descr="Click for larger picture!"/>
          <p:cNvPicPr/>
          <p:nvPr/>
        </p:nvPicPr>
        <p:blipFill>
          <a:blip r:embed="rId1"/>
          <a:stretch/>
        </p:blipFill>
        <p:spPr>
          <a:xfrm>
            <a:off x="3059280" y="907920"/>
            <a:ext cx="309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32000" y="5013360"/>
            <a:ext cx="35622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쥐와 초는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손상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생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식물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손상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를 개선시켜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62" name="Picture 7" descr="priestleyexp"/>
          <p:cNvPicPr/>
          <p:nvPr/>
        </p:nvPicPr>
        <p:blipFill>
          <a:blip r:embed="rId1"/>
          <a:stretch/>
        </p:blipFill>
        <p:spPr>
          <a:xfrm>
            <a:off x="539640" y="692280"/>
            <a:ext cx="430056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로지스톤 없는 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7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고온 가열하여 수은과 함께 얻은 </a:t>
            </a:r>
            <a:r>
              <a:rPr b="1" lang="ko-KR" sz="2600" spc="-1" strike="noStrike" u="sng">
                <a:solidFill>
                  <a:srgbClr val="ffc000"/>
                </a:solidFill>
                <a:uFillTx/>
                <a:latin typeface="Georgia"/>
              </a:rPr>
              <a:t>새로운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많은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함유된 공기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없는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2160" y="4149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플로지스톤 없는 공기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생명의 공기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69" name="Picture 9" descr="priestapp2"/>
          <p:cNvPicPr/>
          <p:nvPr/>
        </p:nvPicPr>
        <p:blipFill>
          <a:blip r:embed="rId1"/>
          <a:stretch/>
        </p:blipFill>
        <p:spPr>
          <a:xfrm>
            <a:off x="1258920" y="476280"/>
            <a:ext cx="676908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75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라부아지에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43-179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57326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의 징세청부업자 겸 권위있는 과학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2" name="Picture 5" descr="Lavoisier (17 ko)"/>
          <p:cNvPicPr/>
          <p:nvPr/>
        </p:nvPicPr>
        <p:blipFill>
          <a:blip r:embed="rId1"/>
          <a:stretch/>
        </p:blipFill>
        <p:spPr>
          <a:xfrm>
            <a:off x="2843280" y="765000"/>
            <a:ext cx="33066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보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오늘 오후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5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418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호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다윈의 진화론도 진화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무게측정법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gravimetric method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응 전후 반응물과 생성물의 무게 측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비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의 무게까지 측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 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가의 정밀 장치 필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5" name="Picture 6" descr="[Engraving]"/>
          <p:cNvPicPr/>
          <p:nvPr/>
        </p:nvPicPr>
        <p:blipFill>
          <a:blip r:embed="rId1"/>
          <a:stretch/>
        </p:blipFill>
        <p:spPr>
          <a:xfrm>
            <a:off x="1908000" y="620640"/>
            <a:ext cx="5400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금속 하소 전후 무게 분석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금속의 무게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&lt;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금속재의 무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은의 무게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&lt;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은재의 무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금속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공기중의 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무언가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=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금속재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리스틀리의 파리 방문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7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수은재 가열하여 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플로지스톤 없는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공기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얻는 실험 목격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라부아지에의 아이디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앞서의 </a:t>
            </a:r>
            <a:r>
              <a:rPr b="1" lang="ko-KR" sz="2300" spc="-1" strike="noStrike">
                <a:solidFill>
                  <a:srgbClr val="ffffff"/>
                </a:solidFill>
                <a:latin typeface="Georgia"/>
              </a:rPr>
              <a:t>무언가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= 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프리스틀리의 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플로지스톤 없는 공기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’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수은 하소에 대한 새로운 이론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중의 무언가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중의 무언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어떻게 입증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반응 전후 고체 무게 측정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기체 부피 변화 측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수은을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에 넣고 가열하면 </a:t>
            </a:r>
            <a:br>
              <a:rPr sz="30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오른쪽 유리병의 기체 부피 감소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8 in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4" name="Picture 5" descr="LavoisierHgCalx"/>
          <p:cNvPicPr/>
          <p:nvPr/>
        </p:nvPicPr>
        <p:blipFill>
          <a:blip r:embed="rId1"/>
          <a:stretch/>
        </p:blipFill>
        <p:spPr>
          <a:xfrm>
            <a:off x="1476360" y="981000"/>
            <a:ext cx="6408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수은재를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N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에 넣고 가열하면</a:t>
            </a:r>
            <a:br>
              <a:rPr sz="30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유리병의 기체 부피 증가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8 in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7" name="Picture 7" descr="LavoisierHgCalx into Hg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질량 증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부피 감소   질량 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부피 증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체 질량 증가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체 질량 감소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 부피 감소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 부피 증가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0" name="Picture 6" descr="mercury into mercury oxide"/>
          <p:cNvPicPr/>
          <p:nvPr/>
        </p:nvPicPr>
        <p:blipFill>
          <a:blip r:embed="rId1"/>
          <a:stretch/>
        </p:blipFill>
        <p:spPr>
          <a:xfrm>
            <a:off x="684360" y="1484280"/>
            <a:ext cx="3816360" cy="1830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mercury oxide into mercury"/>
          <p:cNvPicPr/>
          <p:nvPr/>
        </p:nvPicPr>
        <p:blipFill>
          <a:blip r:embed="rId2"/>
          <a:stretch/>
        </p:blipFill>
        <p:spPr>
          <a:xfrm>
            <a:off x="4716360" y="1484280"/>
            <a:ext cx="3889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무언가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– 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산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명명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연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하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란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에서 무언가가 방출되는 것이 아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이 공기 중의 산소와 결합하는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소와의 결합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분해라는 틀을 이용해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연소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호흡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화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환원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염기 이론 통일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2160" y="83628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거부 반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2160" y="285228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화학반응 과정에서 성질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모양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색깔 등등이 다 바뀌는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무게라고 바뀌지 못한다는 법이 어디 있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용기를 통과할 수 있는 다른 존재자들이 무게에 영향을 줄 수도 있지 않겠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중간시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10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월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17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일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11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418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호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물은 원소가 아니라 화합물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연성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과 생명의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8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을 함께 태워 정확히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0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의 물을 얻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분해의 방법으로 동일한 원소들을 똑같은 비율로 되찾을 수 있다는 것을 보고 나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그 이론을 의심할 수 있겠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” 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부아지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87)</a:t>
            </a: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수소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산소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물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 15 : 85 : 100</a:t>
            </a: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56000" y="1980720"/>
            <a:ext cx="4138560" cy="31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3700" spc="-1" strike="noStrike">
                <a:solidFill>
                  <a:srgbClr val="ffffff"/>
                </a:solidFill>
                <a:latin typeface="Trebuchet MS"/>
              </a:rPr>
              <a:t>화학원론</a:t>
            </a: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》</a:t>
            </a: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(1789)</a:t>
            </a:r>
            <a:endParaRPr b="1" lang="en-US" sz="3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27280" y="5157360"/>
            <a:ext cx="4066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 연소 이론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체계적인 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및 화합물 명명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학반응식 도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2" name="Picture 6" descr="traite de chimie 1"/>
          <p:cNvPicPr/>
          <p:nvPr/>
        </p:nvPicPr>
        <p:blipFill>
          <a:blip r:embed="rId1"/>
          <a:stretch/>
        </p:blipFill>
        <p:spPr>
          <a:xfrm>
            <a:off x="684360" y="620640"/>
            <a:ext cx="3600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33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종에 대해 새롭게 명명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22160" y="58050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빛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열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질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5" name="Picture 4" descr="Lavoisier's Table of Simple Substances"/>
          <p:cNvPicPr/>
          <p:nvPr/>
        </p:nvPicPr>
        <p:blipFill>
          <a:blip r:embed="rId1"/>
          <a:srcRect l="0" t="0" r="0" b="55622"/>
          <a:stretch/>
        </p:blipFill>
        <p:spPr>
          <a:xfrm>
            <a:off x="2195640" y="549360"/>
            <a:ext cx="4698720" cy="459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화합물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관용명 대신 구성 원소에 따라 명명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2160" y="6237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아연꽃 </a:t>
            </a:r>
            <a:r>
              <a:rPr b="0" lang="en-US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산화아연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고정된 공기 </a:t>
            </a:r>
            <a:r>
              <a:rPr b="0" lang="ko-KR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산화탄소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비트리올 </a:t>
            </a:r>
            <a:r>
              <a:rPr b="0" lang="ko-KR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황산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8" name="Picture 5" descr="Lavoisier's Table of the combinations of Oxygen with the compound radicals"/>
          <p:cNvPicPr/>
          <p:nvPr/>
        </p:nvPicPr>
        <p:blipFill>
          <a:blip r:embed="rId1"/>
          <a:srcRect l="0" t="0" r="0" b="19331"/>
          <a:stretch/>
        </p:blipFill>
        <p:spPr>
          <a:xfrm>
            <a:off x="2411280" y="333360"/>
            <a:ext cx="4105440" cy="520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화학반응식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2160" y="5229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응물과 생성물 사이의 정량적인 등식 성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1" name="Picture 7" descr="Equazione stechiometrica pubblicata da Lavoisier"/>
          <p:cNvPicPr/>
          <p:nvPr/>
        </p:nvPicPr>
        <p:blipFill>
          <a:blip r:embed="rId1"/>
          <a:stretch/>
        </p:blipFill>
        <p:spPr>
          <a:xfrm>
            <a:off x="755640" y="1341360"/>
            <a:ext cx="7728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화학혁명의 빛과 그림자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원소설의 대체와 산소 연소 이론의 확립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질량 보존의 법칙 확립과 무게측정을 이용한 물질 분석 방식 확립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원소들이 일정한 비율로 결합한 결과물로서의 화합물 개념 확립과 이를 반영한 체계적인 명명법과 화학반응식 확립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물질의 성질을 연구하는 화학의 목적은 버려짐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의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29" name="Picture 4" descr="Scan0036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49701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5219640" y="3860640"/>
            <a:ext cx="35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이슬람 연금술의 발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2160" y="59500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 도구와 방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용어 개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양한 물질 추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3" name="Picture 4" descr="Islamic sublimation and alembic apparatus, 10th-12th century.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50920" y="836640"/>
            <a:ext cx="2985840" cy="417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http://www.the-spoiler.com/ADVENTURE/Her.interactive/nancy.drew.curse.of.blackmoor.manor.1/NDcurse/planetsdoor.jpg"/>
          <p:cNvPicPr/>
          <p:nvPr/>
        </p:nvPicPr>
        <p:blipFill>
          <a:blip r:embed="rId3"/>
          <a:stretch/>
        </p:blipFill>
        <p:spPr>
          <a:xfrm>
            <a:off x="7812000" y="836640"/>
            <a:ext cx="1332000" cy="2736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www.the-spoiler.com/ADVENTURE/Her.interactive/nancy.drew.curse.of.blackmoor.manor.1/NDcurse/elements.jpg"/>
          <p:cNvPicPr/>
          <p:nvPr/>
        </p:nvPicPr>
        <p:blipFill>
          <a:blip r:embed="rId4"/>
          <a:srcRect l="0" t="0" r="0" b="51548"/>
          <a:stretch/>
        </p:blipFill>
        <p:spPr>
          <a:xfrm>
            <a:off x="3348000" y="83664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air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에서 기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gas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로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 헬몬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579-1644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무 기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≠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8" name="Picture 2" descr="http://2.bp.blogspot.com/_csrew_uNe9k/TJBmqnNRJrI/AAAAAAAADkU/JcEz7s7Ga0c/s400/jean+baptiste+van+helmont+-+willow2.gif"/>
          <p:cNvPicPr/>
          <p:nvPr/>
        </p:nvPicPr>
        <p:blipFill>
          <a:blip r:embed="rId1"/>
          <a:stretch/>
        </p:blipFill>
        <p:spPr>
          <a:xfrm>
            <a:off x="1211400" y="4221000"/>
            <a:ext cx="4297320" cy="194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ttp://c.ask.nate.com/imgs/qrsi.php/8380767/10925005/0/1/A/01.jpg"/>
          <p:cNvPicPr/>
          <p:nvPr/>
        </p:nvPicPr>
        <p:blipFill>
          <a:blip r:embed="rId2"/>
          <a:stretch/>
        </p:blipFill>
        <p:spPr>
          <a:xfrm>
            <a:off x="5651640" y="4149720"/>
            <a:ext cx="27842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static.guim.co.uk/Guardian/artanddesign/gallery/2008/oct/28/1000-artworks-to-see-before-you-die-art1/GD7816824@BAL5872-An-Experiment-2252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진공을 이용한 실험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세기 영국의 기체화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헤일즈의 개방형 압력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수집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727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양한 기체의 분리 및 성질 연구 전통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067280" y="472392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고정된 공기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조지프 블랙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1756)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가연성 공기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헨리 캐븐디쉬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1776)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나빠진 공기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조지프 프리스틀리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1770s)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생명의 공기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쉘레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프리스틀리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1770s)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7" name="Picture 5" descr="http://m1.ikiwq.com/img/xl/UhyIgR9UayDNzTXXEXN4dd.jpg"/>
          <p:cNvPicPr/>
          <p:nvPr/>
        </p:nvPicPr>
        <p:blipFill>
          <a:blip r:embed="rId1"/>
          <a:stretch/>
        </p:blipFill>
        <p:spPr>
          <a:xfrm>
            <a:off x="666720" y="1981080"/>
            <a:ext cx="34005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5:18:02Z</dcterms:created>
  <dc:creator>zolaist</dc:creator>
  <dc:description/>
  <dc:language>en-US</dc:language>
  <cp:lastModifiedBy>DongWook Jung</cp:lastModifiedBy>
  <dcterms:modified xsi:type="dcterms:W3CDTF">2013-10-10T01:54:22Z</dcterms:modified>
  <cp:revision>67</cp:revision>
  <dc:subject/>
  <dc:title>라부아지에와 화학 혁명</dc:title>
</cp:coreProperties>
</file>